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F5908-0F24-4397-BADA-1DED6D6D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F4080-02FB-4187-B94F-77A25C38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DE8D-D6EF-4E8D-8FB6-65308B8A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799E-A53C-4E88-A4DA-D85C231F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21BB-C280-45DB-A2F1-99EAEA3A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7D75-07E3-43B3-8F57-F06642F9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396B-E7ED-4644-9AEF-5021D21D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9B14-8B7C-4DE5-A457-35EA779E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9DD8-39B1-41EB-8872-5FF78C7D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1A9E-4D2A-4924-A8F5-7E6F2A81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DB7E-5A33-4BBF-A109-3DC581A8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5C5D0-C92C-442A-B1DB-71979F8C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152D-97BA-4302-A729-B7F3C53C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0770-0F97-4FBB-B2F0-B2511E4E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0E8A-AF79-4034-9FE3-BEFF3316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5EC6-1D71-4AC7-81F9-4E9904E6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E2F0-A7F4-458E-8595-C17F1525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18B8-F963-4BA5-BC6B-7ACE445B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1635-6163-4FED-A100-977D1523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7CED-8569-419A-8F34-F84D5782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6775-6217-461A-84C5-6A6689C4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699C-224B-4C8F-B3DA-83BB1228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B10C-781D-4BBE-BF6E-F5D0E685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DFCD-A632-4050-8C43-028AA5DC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3f1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9750-917D-45C4-942D-76B690F55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304920" y="1143000"/>
            <a:ext cx="8534160" cy="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F0FF-B4C7-4431-BA29-136809B9D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w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orldwideboxoffice.com/" TargetMode="External"/><Relationship Id="rId2" Type="http://schemas.openxmlformats.org/officeDocument/2006/relationships/hyperlink" Target="http://www.worldwideboxoffice.com/" TargetMode="External"/><Relationship Id="rId3" Type="http://schemas.openxmlformats.org/officeDocument/2006/relationships/hyperlink" Target="http://www.worldwideboxoffice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HACKS STUDIOS PRESENTS: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42670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onday, 12/8/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Heather Ku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ret Ho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Jeffrey 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ugenia Anti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en Stew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5053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e6"/>
                </a:solidFill>
                <a:latin typeface="Times New Roman"/>
              </a:rPr>
              <a:t>Optimizing Ca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odel Formul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del Objectiv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ur objective is to maximize profit by deciding which movie of the 6 movies is most profitable to produce, based on such factors a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ary Costs for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Generating Power of those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Revenue Index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venue Index was calculated for each a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2784600"/>
            <a:ext cx="6095880" cy="3768480"/>
          </a:xfrm>
          <a:prstGeom prst="rect">
            <a:avLst/>
          </a:prstGeom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  <p:grpSp>
        <p:nvGrpSpPr>
          <p:cNvPr id="137" name=""/>
          <p:cNvGrpSpPr/>
          <p:nvPr/>
        </p:nvGrpSpPr>
        <p:grpSpPr>
          <a:xfrm>
            <a:off x="2826720" y="1828800"/>
            <a:ext cx="3954600" cy="720720"/>
            <a:chOff x="2826720" y="1828800"/>
            <a:chExt cx="3954600" cy="720720"/>
          </a:xfrm>
        </p:grpSpPr>
        <p:grpSp>
          <p:nvGrpSpPr>
            <p:cNvPr id="138" name=""/>
            <p:cNvGrpSpPr/>
            <p:nvPr/>
          </p:nvGrpSpPr>
          <p:grpSpPr>
            <a:xfrm>
              <a:off x="3733560" y="1828800"/>
              <a:ext cx="3047760" cy="720720"/>
              <a:chOff x="3733560" y="1828800"/>
              <a:chExt cx="3047760" cy="7207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17880" y="1828800"/>
                <a:ext cx="275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ctor Average Reven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33560" y="2181240"/>
                <a:ext cx="30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78640" y="2181240"/>
                <a:ext cx="283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rand Average Reven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2826720" y="19317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.I. =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1600200" cy="844560"/>
          </a:xfrm>
          <a:prstGeom prst="rect">
            <a:avLst/>
          </a:prstGeom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Compatibility Matrix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9480" y="1233360"/>
            <a:ext cx="71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Arial"/>
              </a:rPr>
              <a:t>Compatibility was estimated by researching Industry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876920"/>
          </a:xfrm>
          <a:prstGeom prst="rect">
            <a:avLst/>
          </a:prstGeom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del Formul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adjust for time-value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US Domestic Re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o only has $150 million to spend on a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odel Optimiz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Model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05720" cy="5504040"/>
          </a:xfrm>
          <a:prstGeom prst="rect">
            <a:avLst/>
          </a:prstGeom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8080" cy="2032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Model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62040" y="4419720"/>
            <a:ext cx="4012200" cy="337320"/>
          </a:xfrm>
          <a:prstGeom prst="rect">
            <a:avLst/>
          </a:prstGeom>
          <a:solidFill>
            <a:srgbClr val="99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'Production Costs &amp; Salaries'!$C$3*C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3120" y="1447920"/>
            <a:ext cx="6861960" cy="337320"/>
          </a:xfrm>
          <a:prstGeom prst="rect">
            <a:avLst/>
          </a:prstGeom>
          <a:solidFill>
            <a:srgbClr val="99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(SUMIF(C16:C25,1,$P$2:$P$11)+SUMIF(C35:C43,1,$P$12:$P$20))*C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0800" y="4987800"/>
            <a:ext cx="5119920" cy="337320"/>
          </a:xfrm>
          <a:prstGeom prst="rect">
            <a:avLst/>
          </a:prstGeom>
          <a:solidFill>
            <a:srgbClr val="99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HLOOKUP(C30,$P$24:$AI$44,C49,FALSE)*C10*C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862360" y="3885840"/>
            <a:ext cx="338040" cy="102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17524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124080" y="3276360"/>
            <a:ext cx="1905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Model Optimization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Revenue per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Binary Go/No Go Decision for ith 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Production Costs for the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alary for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venue Index for the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or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compatibility score between Actors j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Binary: 0 if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or not cast in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if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or was cast in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vi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ev = Grand Average of all movies 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Model Optimization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e Pro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it =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N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*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(Pi +Cas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Salar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veRev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k&lt;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cor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*(Inde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Inde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114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2280" y="4114800"/>
            <a:ext cx="44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of combinations of all actors in mov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del Constrai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constraints that the company has ar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cast more Actors/Actresses per movie than there are leading male/female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s can’t be cast in more movies than the maximum # of movies allowed per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Cast a movie if the studio has decided not to produc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Budget for a movie is $3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should be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Model Constraint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00200" y="1757520"/>
            <a:ext cx="617220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odel Result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results of our analysis, HACKS Studios should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dventure mov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ing Excel Your B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ri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rison F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Julia Rob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Revenu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92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Production 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14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Profi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$578 mill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548640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4320" y="2384280"/>
            <a:ext cx="2654280" cy="13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HAC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wide Movie Production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: Los Angeles,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6 movie scripts and 19 act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ecision has to be made to determine which movie to produce in order to maximize prof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movie we produce, we have to decide which actors to cast into the leading ro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costs, actor inter-personal relationships, and Actor Salaries are taken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ations are Annual Budget, # of roles per movie, # of movies per 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imize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Movie Title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1: Making Excel Your B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re: Adven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2: The Crystal Ball Phenom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re: Science-F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3: EXTENDing 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re: D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4: The Solving Casa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re: Ro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5: Navigating the Jungles of Ju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re: 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6: Do I have to take this class next semester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Part Deu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re: Ho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s: We chose the most popular actors and actresses based on consumer po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ew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 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 Act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14800" cy="3110040"/>
          </a:xfrm>
          <a:prstGeom prst="rect">
            <a:avLst/>
          </a:prstGeom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24280" y="3246480"/>
            <a:ext cx="4038840" cy="2925720"/>
          </a:xfrm>
          <a:prstGeom prst="rect">
            <a:avLst/>
          </a:prstGeom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omestic Revenues Database comprised of 2,149 mov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worldwideboxoffice.com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culated a grand average revenue for all mo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mpiled a complete list of revenues for top grossing movies in which each of these actors have appear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ww.imdb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Revenue was adjusted per 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066680" y="4267080"/>
            <a:ext cx="7543800" cy="2386080"/>
          </a:xfrm>
          <a:prstGeom prst="rect">
            <a:avLst/>
          </a:prstGeom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Data Collection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ovies being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Production Costs based on movie 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724640" cy="2820960"/>
          </a:xfrm>
          <a:prstGeom prst="rect">
            <a:avLst/>
          </a:prstGeom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62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aries: For salary, we used each of the actor’s latest salary requirements per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593880" cy="4952880"/>
          </a:xfrm>
          <a:prstGeom prst="rect">
            <a:avLst/>
          </a:prstGeom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9:23:03Z</dcterms:created>
  <dc:creator>Rick Cutler</dc:creator>
  <dc:description/>
  <dc:language>en-US</dc:language>
  <cp:lastModifiedBy>baseuser</cp:lastModifiedBy>
  <cp:lastPrinted>2001-04-03T19:57:21Z</cp:lastPrinted>
  <dcterms:modified xsi:type="dcterms:W3CDTF">2003-12-08T13:54:51Z</dcterms:modified>
  <cp:revision>215</cp:revision>
  <dc:subject/>
  <dc:title>Factors that block creativity</dc:title>
</cp:coreProperties>
</file>